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152D2-E11A-494E-84EB-CF84F69FF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FC4C1-FA5E-46C9-9614-515354C8D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E50EF-A750-4507-8BD1-70103460C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F6114-E526-47AE-A3F8-252B88BD8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616A2-3A4A-46C7-975B-CFE10EE83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74134-16A8-4DB9-9D81-95A7BFDC8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E310A-086E-48DB-8255-CF6C074A5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01F60-7C10-4517-AAAF-08E30835E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9A7C5-E39C-4DB3-A7C5-85E6DB04E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D5E81-94D5-4B3E-ADE7-212B19EBB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B562-34B9-4D06-BACB-5C65328C0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F9CF1-9FC0-4A33-A9A4-24427978D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D949-AE82-4F15-AF9F-ADFA7F15AA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627280" y="4653000"/>
            <a:ext cx="393372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siunea iunie - iuli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advTm="5000">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63d18"/>
            </a:gs>
          </a:gsLst>
          <a:lin ang="54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8" descr=""/>
          <p:cNvPicPr/>
          <p:nvPr/>
        </p:nvPicPr>
        <p:blipFill>
          <a:blip r:embed="rId1"/>
          <a:stretch/>
        </p:blipFill>
        <p:spPr>
          <a:xfrm>
            <a:off x="5292720" y="1773360"/>
            <a:ext cx="3333600" cy="3333600"/>
          </a:xfrm>
          <a:prstGeom prst="rect">
            <a:avLst/>
          </a:prstGeom>
          <a:ln w="0">
            <a:noFill/>
          </a:ln>
        </p:spPr>
      </p:pic>
    </p:spTree>
  </p:cSld>
  <p:transition advTm="5000">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Tree>
  </p:cSld>
  <p:transition advTm="5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ws22</cp:lastModifiedBy>
  <dcterms:modified xsi:type="dcterms:W3CDTF">2012-06-18T11:06:15Z</dcterms:modified>
  <cp:revision>39</cp:revision>
  <dc:subject/>
  <dc:title>SALARIUL</dc:title>
</cp:coreProperties>
</file>